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13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2C6D-333F-4A46-BA0F-6C187795A9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A36-9DA5-40B7-AA34-471699D2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A5E-0354-4ABE-B299-8C9D0A7E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28A-B871-4D8A-831E-B45EC933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6DC-E6DF-4D30-9637-89AC6D0D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16F-40EC-480A-9EB5-9CA869DF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514-8C1F-48D1-9D22-78D2C11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743-C426-465E-ABFF-CEEA7DDD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2D3-B2B7-4E23-A204-BBA2B515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4F8-1285-4C4D-8130-C2A96B25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848-D096-429E-B06F-00F4C2FD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BD4-A1F1-4777-9C72-93DF1D2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B79-3861-4C7E-A2D4-1F53C66B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4C8-22FE-4664-AE09-E8AE8382F4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U2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RITAIN AND IRELAND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星期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5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40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79840" y="121428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8680" y="26589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75320" y="41068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514600"/>
            <a:ext cx="58672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is ______ the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Cardiff is ______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Lond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06680" y="23544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4880" y="43354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3520" y="114300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209680"/>
            <a:ext cx="6096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 Cardiff is ______ the south    coast of W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re are many islands   ______ the northwest coast of Scotla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222t008" descr=""/>
          <p:cNvPicPr/>
          <p:nvPr/>
        </p:nvPicPr>
        <p:blipFill>
          <a:blip r:embed="rId1"/>
          <a:srcRect l="0" t="0" r="0" b="4906"/>
          <a:stretch/>
        </p:blipFill>
        <p:spPr>
          <a:xfrm>
            <a:off x="1676520" y="990720"/>
            <a:ext cx="5943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20360" y="1676520"/>
            <a:ext cx="521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island is large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itain or Ire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122868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3640" y="3581280"/>
            <a:ext cx="517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larger of the tw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lands is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680" y="1143000"/>
            <a:ext cx="4041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the let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K” stand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400800" y="1066680"/>
          <a:ext cx="149400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066680"/>
                    <a:ext cx="149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278880" y="3048120"/>
            <a:ext cx="48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letters “UK” st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:The United Kingd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Great Britain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orthern Ireland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bjx0201ZW_0029_1" descr=""/>
          <p:cNvPicPr/>
          <p:nvPr/>
        </p:nvPicPr>
        <p:blipFill>
          <a:blip r:embed="rId3"/>
          <a:srcRect l="4736" t="2955" r="5419" b="5598"/>
          <a:stretch/>
        </p:blipFill>
        <p:spPr>
          <a:xfrm>
            <a:off x="1676520" y="2895480"/>
            <a:ext cx="1447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5920" y="1073160"/>
            <a:ext cx="469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“UK”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p o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07480" y="2895480"/>
            <a:ext cx="455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“UK” is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p of Scotlan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les, England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Northern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15128" b="0"/>
          <a:stretch/>
        </p:blipFill>
        <p:spPr>
          <a:xfrm>
            <a:off x="1371600" y="2743200"/>
            <a:ext cx="2057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6440" y="144792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capital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3657600"/>
            <a:ext cx="34390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Edinbur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50160" y="1371600"/>
            <a:ext cx="5973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Scotland famous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906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222t017" descr=""/>
          <p:cNvPicPr/>
          <p:nvPr/>
        </p:nvPicPr>
        <p:blipFill>
          <a:blip r:embed="rId2"/>
          <a:srcRect l="0" t="0" r="0" b="7689"/>
          <a:stretch/>
        </p:blipFill>
        <p:spPr>
          <a:xfrm>
            <a:off x="838080" y="4419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2438280"/>
            <a:ext cx="52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cotland is famou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0" y="1295280"/>
            <a:ext cx="3964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capit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493640" cy="1576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4222t012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4114800" cy="290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3400" y="4124160"/>
            <a:ext cx="183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rdif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47360" y="838080"/>
            <a:ext cx="4153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there many c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s in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88280" y="1143000"/>
          <a:ext cx="1083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8280" y="1143000"/>
                    <a:ext cx="1083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4222t010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5880" y="1676520"/>
            <a:ext cx="281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Unit 2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3200400"/>
            <a:ext cx="72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RITAIN AND IRE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1523880"/>
            <a:ext cx="655308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used to be a lot of co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ines in the south, but many of them have been closed, or are about to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990720"/>
            <a:ext cx="495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8280" y="11430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906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71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4222t004" descr=""/>
          <p:cNvPicPr/>
          <p:nvPr/>
        </p:nvPicPr>
        <p:blipFill>
          <a:blip r:embed="rId2"/>
          <a:srcRect l="0" t="0" r="0" b="5355"/>
          <a:stretch/>
        </p:blipFill>
        <p:spPr>
          <a:xfrm>
            <a:off x="1447920" y="2362320"/>
            <a:ext cx="340020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9600" y="3733920"/>
            <a:ext cx="309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Londo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121932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population of Lond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4222t001" descr=""/>
          <p:cNvPicPr/>
          <p:nvPr/>
        </p:nvPicPr>
        <p:blipFill>
          <a:blip r:embed="rId2"/>
          <a:srcRect l="13597" t="0" r="16149" b="-3098"/>
          <a:stretch/>
        </p:blipFill>
        <p:spPr>
          <a:xfrm>
            <a:off x="1447920" y="3048120"/>
            <a:ext cx="236196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3200400"/>
            <a:ext cx="38862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t has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seven mil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0200" y="152388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thern Ire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20240" y="3505320"/>
            <a:ext cx="28126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Belfas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3440" y="1676520"/>
            <a:ext cx="474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The larg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island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s Bri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6920" y="3581280"/>
            <a:ext cx="441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tall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ys is T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24382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ch is better of the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ooks, this one or that on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066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bet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book or that boo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80988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the better of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 boo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one or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6800" y="82404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84520" y="4176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1040" y="235116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28800" y="1219320"/>
            <a:ext cx="5791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is _______ country,   Canada  or Australi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a large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a larger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the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423540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WHATNOW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154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28800" y="1066680"/>
            <a:ext cx="57913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the manager had to choose between the two, he would say John was _____ choi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ood        B. the b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better      D. the 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75040" y="41911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5000" y="990720"/>
            <a:ext cx="562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etters “UK”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United Kingdom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Britain and North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reland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0120" y="4600440"/>
            <a:ext cx="54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ands for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nited States of Americ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4120" y="467676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S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6680" y="332100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ARS” stands for severe ac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espiratory syndr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74600" y="1371600"/>
            <a:ext cx="493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UK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made 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r count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6280" y="3124080"/>
            <a:ext cx="500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r class is made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29 boys and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ir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ower_of_london_and_the_city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3124080" cy="2249640"/>
          </a:xfrm>
          <a:prstGeom prst="rect">
            <a:avLst/>
          </a:prstGeom>
          <a:ln w="0">
            <a:noFill/>
          </a:ln>
        </p:spPr>
      </p:pic>
      <p:pic>
        <p:nvPicPr>
          <p:cNvPr id="53" name="tower_bridge_in_london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3124080" cy="1519200"/>
          </a:xfrm>
          <a:prstGeom prst="rect">
            <a:avLst/>
          </a:prstGeom>
          <a:ln w="0">
            <a:noFill/>
          </a:ln>
        </p:spPr>
      </p:pic>
      <p:pic>
        <p:nvPicPr>
          <p:cNvPr id="54" name="big_ben_at_sunset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27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11430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4360" y="4267080"/>
            <a:ext cx="57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for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reat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240" y="2666880"/>
            <a:ext cx="518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rance is famous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erf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7000" y="3371760"/>
            <a:ext cx="519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as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ntry with a l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5400" y="1600200"/>
            <a:ext cx="48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instein is famous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nventor.  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8380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re used to b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lot of coal mines in the south, but many of them have been closed, 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 about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2360" y="3124080"/>
            <a:ext cx="516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re used to be a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ere, </a:t>
            </a:r>
            <a:r>
              <a:rPr b="1" i="1" lang="en-US" sz="4000" spc="-1" strike="noStrike">
                <a:solidFill>
                  <a:srgbClr val="ff99ff"/>
                </a:solidFill>
                <a:latin typeface="Times New Roman"/>
              </a:rPr>
              <a:t>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4880" y="434340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you came in, 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s about to lea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79400" y="1295280"/>
            <a:ext cx="55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do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s a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7 m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7960" y="2763720"/>
            <a:ext cx="523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hina has a 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1.3 b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4222t013" descr=""/>
          <p:cNvPicPr/>
          <p:nvPr/>
        </p:nvPicPr>
        <p:blipFill>
          <a:blip r:embed="rId1"/>
          <a:srcRect l="0" t="0" r="0" b="9930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022-2-2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2606760" cy="3505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114300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33920" y="1066680"/>
            <a:ext cx="46479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-1-1" descr=""/>
          <p:cNvPicPr/>
          <p:nvPr/>
        </p:nvPicPr>
        <p:blipFill>
          <a:blip r:embed="rId1"/>
          <a:srcRect l="6464" t="0" r="0" b="0"/>
          <a:stretch/>
        </p:blipFill>
        <p:spPr>
          <a:xfrm>
            <a:off x="1295280" y="1295280"/>
            <a:ext cx="2206800" cy="426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42560" y="1295280"/>
            <a:ext cx="42055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ritain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ea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Ire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09800" y="2286000"/>
            <a:ext cx="40928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les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5160" y="3429000"/>
            <a:ext cx="4131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gland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Bri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280" y="4648320"/>
            <a:ext cx="38901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ver Th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54380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543800" y="2971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543800" y="44197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543800" y="5181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8040" y="99072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to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6960" y="2814480"/>
            <a:ext cx="410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mportant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0640" y="121932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very fon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28954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57600" y="1295280"/>
            <a:ext cx="42829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35920" y="3730680"/>
            <a:ext cx="523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ydney __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Opera House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0480" y="3733920"/>
            <a:ext cx="29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520" y="3279600"/>
            <a:ext cx="549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  ____________ lea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it began to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7960" y="320364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re abou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0" y="3290760"/>
            <a:ext cx="5225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oreign language stu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_____________ in Kar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Marx's lif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9160" y="3962520"/>
            <a:ext cx="28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layed a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51160" y="3508200"/>
            <a:ext cx="58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is such a nice girl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 of us ___________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1160" y="411480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re fond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0520" y="3203640"/>
            <a:ext cx="594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is room is too big. W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ould ________ it 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1120" y="38098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2400" y="37339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33526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  ________   pl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asketball every day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were at college.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1840" y="327960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990720"/>
            <a:ext cx="63244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be made up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单元四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divide…into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组练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play a part in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听说重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 fond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英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9625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EFC is our English text-book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stands for  “Senior English for Chin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2819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to the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371600"/>
            <a:ext cx="647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ngkong is to the south of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1640" y="3809880"/>
            <a:ext cx="49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1280" y="4572000"/>
            <a:ext cx="5071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st of Fujian is Tai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23623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ach unit of the book is made up of four lesson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06960" y="1752480"/>
            <a:ext cx="630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EFC is our English tex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ok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stands for  “Sen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glish for Chin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11520" y="1828800"/>
            <a:ext cx="6237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we have our Englis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lasse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usu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s us into smal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d asks us to pract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peaking and listening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76520" y="1295280"/>
            <a:ext cx="579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says speaking and listening plays an important part in lear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 foreign language. M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us are very fond of learning English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S is made up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The US is made up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f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______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the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 everyone h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ft the meeting room, he turned ____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veryone had lef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eeting room,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rned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 off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  very beautiful , ____ l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2000" y="1371600"/>
            <a:ext cx="40442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41560" y="3745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2000" y="3429000"/>
            <a:ext cx="40442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ry beautiful,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with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ots   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______the Changjiang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Changjian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 _____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_____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by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 ____ 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to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 .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____how 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3320" y="1523880"/>
            <a:ext cx="365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eijing lies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rth of Chin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7080" y="3657600"/>
            <a:ext cx="38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ina is in the 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As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. 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____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 center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at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rese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nter in 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____ a safer pla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11.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to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a safer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94920" y="118908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S00554_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905120" cy="1717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30440" y="28195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1. P 32, Ex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6160" y="3809880"/>
            <a:ext cx="62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. to preview the next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66800" y="1600200"/>
            <a:ext cx="38138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uhan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angtze Riv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5240" y="3135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66440" y="342900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nghai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angpu Ri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3048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pan is on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33680" y="266688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8640" y="47242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st of China lies Jap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9000" y="3886200"/>
            <a:ext cx="49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9000" y="137160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320" y="220968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i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5400" y="4419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6800" y="335268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75240" y="14479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09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09:15:37Z</dcterms:modified>
  <cp:revision>699</cp:revision>
  <dc:subject/>
  <dc:title>PowerPoint Presentation</dc:title>
</cp:coreProperties>
</file>